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13198"/>
        <c:axId val="52524287"/>
      </c:barChart>
      <c:catAx>
        <c:axId val="47313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4287"/>
        <c:crosses val="autoZero"/>
        <c:auto val="1"/>
        <c:lblAlgn val="ctr"/>
        <c:lblOffset val="100"/>
        <c:noMultiLvlLbl val="0"/>
      </c:catAx>
      <c:valAx>
        <c:axId val="52524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13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FCC-00FC-4884-880E-9231CBC3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664-314B-4D26-A215-7A7276C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544-D1EC-4061-81AA-0AB5EDA3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B4E-73D3-4695-AF37-46B1064E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9F6-7C2A-4A63-9657-95BFC98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FC5-5C95-4F65-9584-8B23386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158-DA1A-487D-BD28-B98E82D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2AC-9B54-4559-ACDE-40CE22A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E8F-FB0F-4B51-9815-22A7029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AD1-C2DC-473C-82B1-C64A12D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4D5-A657-4573-BD61-066915C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937-138D-408E-9AF4-DBD1829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9D71-4FA9-4CE2-9410-837CBC3DD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