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2702"/>
        <c:axId val="66364607"/>
      </c:barChart>
      <c:catAx>
        <c:axId val="8032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64607"/>
        <c:crosses val="autoZero"/>
        <c:auto val="1"/>
        <c:lblAlgn val="ctr"/>
        <c:lblOffset val="100"/>
        <c:noMultiLvlLbl val="0"/>
      </c:catAx>
      <c:valAx>
        <c:axId val="66364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2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E0D-39AB-4A7F-9CA5-65F54B51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208-76F1-4D35-BD69-2932C248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14B-5B17-452B-AADC-2EDF2D9E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29B-D3B2-43F0-8F57-A544008F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0D9-A30E-4FA8-A641-658572F3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EC0-7B4A-4373-AE29-A6145072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24A-2645-4E71-A005-7954C97B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510-130E-41F6-9C99-BD37954F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3AB-88B3-409A-A9DD-D7C92903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09E-E14C-4552-B197-AEB0A77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696-26E8-48B1-88D9-E8C32DB1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E99-85DB-4C92-92B2-1A3921C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D837-FE2C-4CD6-8C89-690CD4FDB9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