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11728"/>
        <c:axId val="97431597"/>
      </c:barChart>
      <c:catAx>
        <c:axId val="98211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31597"/>
        <c:crosses val="autoZero"/>
        <c:auto val="1"/>
        <c:lblAlgn val="ctr"/>
        <c:lblOffset val="100"/>
        <c:noMultiLvlLbl val="0"/>
      </c:catAx>
      <c:valAx>
        <c:axId val="97431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11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CCF-389A-4EF0-A4D1-A1A0EB1F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756-77EC-47DE-A013-01157CD2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242-23A7-434A-84CD-8DFF88BA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BAD-BB9C-409D-8F70-8E196D95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65B-7BFE-45D4-B5E0-4E0E9D64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C4F-6696-4FDF-BA83-27AAEAB5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7AD-EA2B-475B-AA24-73B1DF07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B6F-9AF3-4462-B3BC-7A78E273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42E-EFB3-44C2-B811-A55B5080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72E-1890-4E0E-80A7-6ED6798D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6A3-304F-4C02-A240-C3A2A848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EEA-0E08-457F-BA75-1CB7A5B9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D57AD-2182-4E52-9AF7-24D5A00DBA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