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267445"/>
        <c:axId val="78305373"/>
      </c:barChart>
      <c:catAx>
        <c:axId val="122674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05373"/>
        <c:crosses val="autoZero"/>
        <c:auto val="1"/>
        <c:lblAlgn val="ctr"/>
        <c:lblOffset val="100"/>
        <c:noMultiLvlLbl val="0"/>
      </c:catAx>
      <c:valAx>
        <c:axId val="783053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674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F62F-416D-4D98-8219-836A355F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60D5-6437-42F4-B7FA-8F227082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F179-5116-443F-8092-7B5B2F6F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3A23-34CA-4402-B4B8-B1E77B00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3996-7414-4BB2-B3CC-E201D40C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F16C-93E4-457F-A4EF-A3DEF809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8502-07A6-401D-ACB4-8E69EBE0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DFCB-F6D1-401C-A207-F8ED6ED5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7D2A-147A-4C3F-9BAF-78CA6FB3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F698-5ECD-4DDB-A275-CD858FB8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38E7-4C6E-4DE3-9B08-AB2784D0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E82E-DDB6-424D-AF57-E9DB8181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2B97E-7DDE-4474-A398-95F12B7E68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