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7345"/>
        <c:axId val="27599398"/>
      </c:barChart>
      <c:catAx>
        <c:axId val="66427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99398"/>
        <c:crosses val="autoZero"/>
        <c:auto val="1"/>
        <c:lblAlgn val="ctr"/>
        <c:lblOffset val="100"/>
        <c:noMultiLvlLbl val="0"/>
      </c:catAx>
      <c:valAx>
        <c:axId val="27599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7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10E-3E57-4457-A3C4-C6C73DB7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94D-5220-4745-A35E-9E42182D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760-11B9-4D3D-B10E-DF21D700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F73-B510-4D30-A538-A5C74C06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E97-1344-4538-B502-379940A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2CC-E766-48B7-BD89-CDBDB895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29B-095F-4137-8D99-B728BF8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408-CA8E-4B9D-B51F-5632FDDD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5EC-A236-4DC3-8401-10394997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0A0-A4A7-44FF-AD1C-9FA1CF7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7BC-4271-4507-815B-0F3B6EE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039-B2D6-45D8-9C07-648E546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E868-156F-4075-A12C-4E4FA8A04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