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155067"/>
        <c:axId val="99262926"/>
      </c:barChart>
      <c:catAx>
        <c:axId val="381550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62926"/>
        <c:crosses val="autoZero"/>
        <c:auto val="1"/>
        <c:lblAlgn val="ctr"/>
        <c:lblOffset val="100"/>
        <c:noMultiLvlLbl val="0"/>
      </c:catAx>
      <c:valAx>
        <c:axId val="99262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550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BAF4-7DFC-4425-B0B8-C1FF0D8B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834F-7324-445C-8E7F-1FCA2D92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9BBF-D132-44F6-8F1C-563FD9BB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DACE-BBD1-4486-8FA3-3C97D6AB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9875-5F46-4DA2-9524-EEFF66CD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8FD0-2641-412E-A2F5-BC300F62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6C9D-B5F1-4B32-B607-9047DE3E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C131-9A90-41A6-B362-E776DFCC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5B77-1F09-46AD-BBBD-331E22B5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8299-878A-4637-AC87-2A0DE492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C40E-4B1B-4E85-BF6E-C74A9C60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55A5-0DFE-4B2B-9D09-CE4781D3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1C395-601F-424D-83CB-4C22834F7F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