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99163"/>
        <c:axId val="52890382"/>
      </c:barChart>
      <c:catAx>
        <c:axId val="25991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90382"/>
        <c:crosses val="autoZero"/>
        <c:auto val="1"/>
        <c:lblAlgn val="ctr"/>
        <c:lblOffset val="100"/>
        <c:noMultiLvlLbl val="0"/>
      </c:catAx>
      <c:valAx>
        <c:axId val="528903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91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327A-4D61-4CF0-937A-28B88542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E75C-EC05-4114-B407-B4FE211E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690A-ECDA-4D17-9E11-2D7F13644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BA8A-77BE-46A5-BBE3-F27EF70A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F4DB-7720-483E-A653-CD77915A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3994-00FA-4CC1-963F-D4ED4584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556D-5593-4BF1-84AC-32D49946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683B-5D69-44FD-975E-2662B370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6C22-028E-40B1-BB49-A228E5BA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48DD-5D05-42BF-8CA3-069F76EE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8309-4F90-4519-930D-85634D3B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ACC3-536B-4005-81BC-ABF418E2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E6281-BE54-46FF-8D06-E3222383FE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