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111264"/>
        <c:axId val="64804050"/>
      </c:barChart>
      <c:catAx>
        <c:axId val="121112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04050"/>
        <c:crosses val="autoZero"/>
        <c:auto val="1"/>
        <c:lblAlgn val="ctr"/>
        <c:lblOffset val="100"/>
        <c:noMultiLvlLbl val="0"/>
      </c:catAx>
      <c:valAx>
        <c:axId val="648040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112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5708-8305-458C-8078-6621BD352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26C8-CC80-484D-849A-11F9D9EC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793F-C06A-41D6-8BC6-FCA2469E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7212-B805-497E-AE14-E2353E8B9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1099-0BC2-4A01-8110-497D82BF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1378-F664-4C2C-9611-D4B19D6D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70F6-507A-4F6D-8492-544F3E23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ABC5-A65C-44E6-AFAD-18E44EB8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BB16-EA0F-41B8-9B65-F21A0D14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6C4C-4673-49D8-B8D8-261CB5FF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ED6E-D449-4666-A260-620D1BFB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8808-C7AF-4BBD-B480-15F7E1FC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3292C-5BCE-41B9-A0A7-A657D3E291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