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50567"/>
        <c:axId val="30268766"/>
      </c:barChart>
      <c:catAx>
        <c:axId val="310505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68766"/>
        <c:crosses val="autoZero"/>
        <c:auto val="1"/>
        <c:lblAlgn val="ctr"/>
        <c:lblOffset val="100"/>
        <c:noMultiLvlLbl val="0"/>
      </c:catAx>
      <c:valAx>
        <c:axId val="30268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505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F160-D4A6-4E67-8E51-0EC6F1D9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C1D6-CF9F-47D9-AE98-CC3CD8C5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AED3-F666-47DA-80A3-31781059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685-23CB-4C44-84D8-A720CF57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C4F-87F9-4D12-A87A-A33829E4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F3A-FD78-443B-A095-5855BEDD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E345-B74F-417F-99DC-D66A1009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C21-CA5C-4C5F-B4D1-4165C638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DC3-8E89-49A4-BF92-354ED80E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206-C998-40BF-8F89-D86209E9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A86-2EB3-42F1-8A6D-4E2D05A7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1F9-109F-4879-8E36-4C059F6C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DE180-FC75-4531-82C4-61B0BC869F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