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95496"/>
        <c:axId val="90927077"/>
      </c:barChart>
      <c:catAx>
        <c:axId val="96395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7077"/>
        <c:crosses val="autoZero"/>
        <c:auto val="1"/>
        <c:lblAlgn val="ctr"/>
        <c:lblOffset val="100"/>
        <c:noMultiLvlLbl val="0"/>
      </c:catAx>
      <c:valAx>
        <c:axId val="90927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95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878-7E1B-403A-8FFC-1BF02DC8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675-9617-440B-B924-31A0811C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E52-BFD4-4A86-A0F9-5BE318B4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7F3-AFE8-428F-993D-2D485AE0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2CF-CA41-442B-96F9-26968EDE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F9D-7A2F-4845-A211-DE125CAD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6CC-EB73-4307-B40D-8418CDEE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FD8-B657-4712-B9CE-1478099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817-EC2A-4EB9-9E70-A9655B16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267-38EA-43A3-B303-30736F2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F4B-9333-4B00-9D2A-50F09BCF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B2C-B55D-44E1-BCB0-86221766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FED7A-1396-40FA-A345-689A6F8E46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