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23039"/>
        <c:axId val="88442489"/>
      </c:barChart>
      <c:catAx>
        <c:axId val="44123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42489"/>
        <c:crosses val="autoZero"/>
        <c:auto val="1"/>
        <c:lblAlgn val="ctr"/>
        <c:lblOffset val="100"/>
        <c:noMultiLvlLbl val="0"/>
      </c:catAx>
      <c:valAx>
        <c:axId val="88442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23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D42-41B5-4833-95E4-F0C0262E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4F2-D352-4695-A866-6C728D01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0B7-D763-4B43-AD2A-247B525E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E4C-47D0-4E64-AF59-449DC607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DDD-419C-4C64-B832-1C7D16A9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F4F-FF42-47C5-881A-AC922BA6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9BC-A707-41B1-9FE5-91A66B53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F53-DC56-46E3-8EB7-AC05E0E1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E9D-8A9E-4E59-B8F8-16F895E6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5D3-4348-445A-9846-D7CF3081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B82-142E-4A68-A1F3-42B044F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37C-30D3-46A0-AC7E-4FD2C38A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AE9FD-7070-4D81-9816-89C4432E0F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