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31540"/>
        <c:axId val="27726862"/>
      </c:barChart>
      <c:catAx>
        <c:axId val="8453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26862"/>
        <c:crosses val="autoZero"/>
        <c:auto val="1"/>
        <c:lblAlgn val="ctr"/>
        <c:lblOffset val="100"/>
        <c:noMultiLvlLbl val="0"/>
      </c:catAx>
      <c:valAx>
        <c:axId val="27726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3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8FF-3CC7-466F-A646-440EAD69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EBC-59AB-43C3-A120-B3F01CA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BC8-8DEF-42D8-AEEF-85064878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835-CF4A-40DA-996C-7C86B99C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848-92D2-40D4-A4E1-FA610C9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3D6-6DBA-4BC4-958C-322F754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E4B-5FA4-4D39-B49A-C7CD80C4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C55-B5BE-4A7B-B424-C9CD953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DC4-6E75-48C4-86BB-3822DD4D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53B-86A3-4760-AF3D-6FDBE88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BBC-D077-4B9F-A1D7-DD948EA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C54-3C4C-4304-B3B0-42E3B2F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0DCBE-8F07-4A13-AFE1-BDC502249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