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1747"/>
        <c:axId val="14892447"/>
      </c:barChart>
      <c:catAx>
        <c:axId val="7841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2447"/>
        <c:crosses val="autoZero"/>
        <c:auto val="1"/>
        <c:lblAlgn val="ctr"/>
        <c:lblOffset val="100"/>
        <c:noMultiLvlLbl val="0"/>
      </c:catAx>
      <c:valAx>
        <c:axId val="14892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1F1-DD32-49F5-B3B1-709C42C8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161-2198-4658-9A2E-2B67788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376-BD72-4590-9264-BB9473B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830-D8C4-4B10-BD13-DFED954E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33C-E560-4F06-8C74-4D625DD8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43D-D160-49FE-99FF-4D92DBB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ED0-C2D5-4CE8-89B5-9123AD0C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60D-FE20-41FF-B423-7CF0A956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B53-EE0D-4F41-8A4E-F9B1A0A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111-BB24-44E4-9C73-4B9B1AF1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E9D-A448-4B12-85AA-0ADD7022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890-6051-4B98-A4E9-28623A2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A9AE1-D879-4B7B-A49A-76A745274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