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8703"/>
        <c:axId val="22002867"/>
      </c:barChart>
      <c:catAx>
        <c:axId val="1818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02867"/>
        <c:crosses val="autoZero"/>
        <c:auto val="1"/>
        <c:lblAlgn val="ctr"/>
        <c:lblOffset val="100"/>
        <c:noMultiLvlLbl val="0"/>
      </c:catAx>
      <c:valAx>
        <c:axId val="22002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8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442-1015-4160-8209-0C3AA503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3F0-BC70-4808-B5A9-F147630E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19D-0987-4D8D-B863-D727DBF4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BB9-660A-4165-B511-64BCDAFF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ED4-098B-4718-8AF8-B6E983DD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21E-8DC9-465B-A70B-B10E4460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B6D-78BD-49A2-9229-DC1D92CE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45E-CC51-4213-876C-3C668320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452-056C-4E41-B919-DB3BD11D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561-46AB-458E-B59C-C93A143F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86E-0606-4008-82C0-EBF21759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84C-7A8A-4109-9881-41A9DEF0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8B68F-3605-4F48-B81E-73F6E3A20A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