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072210"/>
        <c:axId val="47850239"/>
      </c:barChart>
      <c:catAx>
        <c:axId val="49072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50239"/>
        <c:crosses val="autoZero"/>
        <c:auto val="1"/>
        <c:lblAlgn val="ctr"/>
        <c:lblOffset val="100"/>
        <c:noMultiLvlLbl val="0"/>
      </c:catAx>
      <c:valAx>
        <c:axId val="478502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72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AC96-E0CA-43D6-BF98-6BB964BE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E137-4EF1-47B4-A5A2-2BA08485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616-C079-4402-A833-7CE57CBA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D62A-705E-40D2-880C-CC4D6F67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ACD-2DA3-49E6-B13A-18FFB055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8174-E0D9-4EA2-820C-EC1D5D17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900B-7672-4F4D-A2AA-ADF0EA94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3829-71E6-4F03-ABBA-DF80E232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E15-F1FD-4107-B612-8DA2A500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A4A-917D-4252-8F7E-61A4193C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AE30-27B9-4CAC-8EA2-FD2C22E2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0B8F-7429-4F47-835D-B20DC1FB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79ABF-A8E7-4C17-B8B8-C83A1D642E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