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12129"/>
        <c:axId val="11277505"/>
      </c:barChart>
      <c:catAx>
        <c:axId val="79812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77505"/>
        <c:crosses val="autoZero"/>
        <c:auto val="1"/>
        <c:lblAlgn val="ctr"/>
        <c:lblOffset val="100"/>
        <c:noMultiLvlLbl val="0"/>
      </c:catAx>
      <c:valAx>
        <c:axId val="11277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12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3C6-1BCF-452A-A761-66218D7B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2F46-56AE-48CA-9F30-8736A6B3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0CD-2484-43C9-BD27-1E3BAC65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622-682F-412A-AAB1-9224FDBC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533-AF60-44C3-B61F-E1DCCFE1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5E4-0563-4BEB-B796-FAB9F3DE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AD9-5A46-4552-ADBD-DCAA0C6D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8FD-1E39-4C17-BFAF-EF1FC827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2C6-801E-416E-9595-7438B46F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4E7-1A16-45D4-8F76-C4D24FF8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145-BBEA-4391-BCF3-61F461DA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654-1D30-4DC5-AFB8-2C287DBA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A866C-4B70-41AA-B7AA-3B8275B3F7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