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98261"/>
        <c:axId val="71876321"/>
      </c:barChart>
      <c:catAx>
        <c:axId val="37198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76321"/>
        <c:crosses val="autoZero"/>
        <c:auto val="1"/>
        <c:lblAlgn val="ctr"/>
        <c:lblOffset val="100"/>
        <c:noMultiLvlLbl val="0"/>
      </c:catAx>
      <c:valAx>
        <c:axId val="71876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98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EBC-B395-4774-BABF-49814D5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22F-42B6-4B22-81A0-660287CE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624-ED1D-41E2-82B1-F10C15E4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D7D-E5BD-46F2-AADB-B15EEE17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326-45A4-4207-A010-C516E081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770-37D4-4D59-8265-429B84C6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D18-5A97-4347-B4C9-14603F24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B30-E550-4847-B4DD-07CB084A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638-D085-46FC-AC76-48C5BB70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5BC-171F-41BB-8FBD-1E951499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87E-0606-474C-A3A9-99C2811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698-ED96-466D-987C-87515B4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B80E5-2E11-4236-8D62-2F91180896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