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05594"/>
        <c:axId val="51254771"/>
      </c:barChart>
      <c:catAx>
        <c:axId val="15055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254771"/>
        <c:crosses val="autoZero"/>
        <c:auto val="1"/>
        <c:lblAlgn val="ctr"/>
        <c:lblOffset val="100"/>
        <c:noMultiLvlLbl val="0"/>
      </c:catAx>
      <c:valAx>
        <c:axId val="512547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055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94AB-B5B3-4967-8C50-BBE3AA235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F085-ADF2-4699-A26A-D122B8D8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A294-3D30-4333-B50A-EB16E33C0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F760-814F-4DB3-A545-4EABA7C0B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CD96-5CC9-41FE-9628-D42C123A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8810-FDA0-4888-8053-78D2BBCB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5102-33F7-4E0F-A96C-45C44639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9F99-2C9E-4041-92C1-D99681DF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EB6E-237A-4C24-B4A2-7A8EE297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EFC2-D52D-4012-BF64-9FCEE244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9F8F-204E-4A9E-A2BF-31466A6E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EAAC-5CC6-4CC5-B296-E27019DD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C5A4D4-2572-4DBE-9F3C-8AEB01517C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