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471869"/>
        <c:axId val="88943905"/>
      </c:barChart>
      <c:catAx>
        <c:axId val="424718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943905"/>
        <c:crosses val="autoZero"/>
        <c:auto val="1"/>
        <c:lblAlgn val="ctr"/>
        <c:lblOffset val="100"/>
        <c:noMultiLvlLbl val="0"/>
      </c:catAx>
      <c:valAx>
        <c:axId val="889439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4718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3C05-D712-4DEF-8627-798B70120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A200-BE92-4A22-BB40-121DDB16D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5512-DB3E-4681-B99E-C6E17C2F2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6321-A0FF-4E00-8C2C-F2A94C706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B3A1-B04F-492C-9C88-A90E6C347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11B0-1B01-4F1A-8830-7F9D7F03D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A468-7363-45E9-9D13-A531AEE05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EEC7-3095-4090-A1BF-77859E989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042B-C37F-4F1A-BE64-70EB4081E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D778-FFCA-4BB1-A21E-B6ABD4EB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052B-FC4D-4EB0-9BDA-315683F4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D335-B80B-437D-9390-4CF809B2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45C6F6-DD7F-44F3-BBBB-8B2FEB5D536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