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981"/>
        <c:axId val="76685769"/>
      </c:barChart>
      <c:catAx>
        <c:axId val="738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85769"/>
        <c:crosses val="autoZero"/>
        <c:auto val="1"/>
        <c:lblAlgn val="ctr"/>
        <c:lblOffset val="100"/>
        <c:noMultiLvlLbl val="0"/>
      </c:catAx>
      <c:valAx>
        <c:axId val="76685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D9-99D7-493F-A4CA-E04AA873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592-E0CC-4C7E-825C-27CA2CC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24D-3D22-4792-AE91-7B3D1941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9F3-E306-4C89-B361-8D7F79B3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D27-8775-4996-A0FE-677D9B9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F4D-42BD-493D-9D48-518380C5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2E2-8749-4DDF-909D-0A6B941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1B4-29F7-4CAB-91C1-56902240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C07-F26D-4D3B-B181-8DDA4710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7D2-7259-4DD5-98B7-A3F0F94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D47-C6D4-4F30-B26A-E7A69F7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8BD-DC09-4D6E-9740-6D0C483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5FE6-1BDD-45B8-9623-6B699611D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