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38283"/>
        <c:axId val="38306754"/>
      </c:barChart>
      <c:catAx>
        <c:axId val="63338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06754"/>
        <c:crosses val="autoZero"/>
        <c:auto val="1"/>
        <c:lblAlgn val="ctr"/>
        <c:lblOffset val="100"/>
        <c:noMultiLvlLbl val="0"/>
      </c:catAx>
      <c:valAx>
        <c:axId val="38306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38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8FE-EDCC-49A5-B6E3-09D612E6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71B-542F-45E0-92BF-89990DAE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9C7-34ED-4EBE-83E7-1196FE43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290-DD17-4027-B3C4-45FA0BFA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6C8-2B2C-40F6-B429-B09F1FC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994-1B68-4C42-98DE-17E2F207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5C6-FFA9-4353-A3B7-FC2F3491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5AF-6F97-437F-82C1-CDE3716F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C53-8EA6-4099-835A-4F67A277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C71-E542-4151-B0B7-A454CD0A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876-E32C-43E8-B984-ED945ED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60E-4AD8-47EC-9E0C-C4ECAF18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04740-81A0-4FB3-94B4-53DECA113C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