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5574"/>
        <c:axId val="13591848"/>
      </c:barChart>
      <c:catAx>
        <c:axId val="42655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91848"/>
        <c:crosses val="autoZero"/>
        <c:auto val="1"/>
        <c:lblAlgn val="ctr"/>
        <c:lblOffset val="100"/>
        <c:noMultiLvlLbl val="0"/>
      </c:catAx>
      <c:valAx>
        <c:axId val="13591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5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CE6-A129-4904-B3B0-5ABDDDD4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48B-6997-401C-BF18-754D93B2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5BF-6D9F-4379-910A-E6B95EFB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968-946F-4115-ACA9-43AF7EEA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46F-71BA-411D-876F-6AB6691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C89-6274-4931-B5D3-9FA8F12E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8D1-60C7-44DA-94F4-B7C7A211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DA6-F6D4-4050-9706-9CADCC13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DBB-169A-41EE-81A2-27300ED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A0E-A623-498E-84B8-81064FB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B05-B204-4CAA-83DB-532728F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AC4-A2A6-49F3-89B4-70EC3C1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B4576-5C89-4B45-8CAD-D6A8ACCB9B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